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5FE8-6153-4B4B-B191-96AD99026F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EE5-9AE6-4D49-9218-C0846C8A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5A5-2778-4964-8C6F-6A5A63CC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2F6-36DD-42F3-9E9D-08CF55CB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9A6-83FB-4984-B9AF-0603C72A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EBB-5F59-4DF9-8E81-3E9F1D1E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833E-3EEE-42C1-AD7B-67A2D039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388-925E-4CCC-AD10-BCA4AB85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B2CB-0BA3-4E09-B274-5DEE0E37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DB04-8033-4F64-8C2B-095A9A4E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F0E9-5179-42B7-9A06-B3E2541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0C0-E3E1-4C4E-8A39-F1633ED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D5A-735A-4F47-A35C-5F59C50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06A4-37B7-4FC1-A89F-F5BB140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601E-7562-439E-A53E-56E1ED1D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365E-5016-4DFB-BE34-251EE34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02CE-B947-4B3F-9CB8-92638CC7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CF0D-0BF6-4773-A3FE-0CB323C8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489-118C-41ED-9D37-2FC9C176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2EC-5CAB-48A9-A655-579DE5F7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DEE-88F2-4626-9F0A-8FE7F349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0B3-5FE7-4675-819F-826051D7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0C1-22FF-4EE1-BF30-4D946B8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4DD-CABA-45FC-83F3-BF2A9EC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250-631B-4E1A-A538-69541BF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D33D-5B2D-4282-A1D3-A3FC470989CB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1C6-36AE-419B-A53F-FF3B465BA41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434E-6C9F-45F6-B87C-3125536833BE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Imp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Microsoft</cp:lastModifiedBy>
  <dcterms:modified xsi:type="dcterms:W3CDTF">2010-05-10T11:28:29Z</dcterms:modified>
  <cp:revision>12</cp:revision>
  <dc:subject/>
  <dc:title>Internet</dc:title>
</cp:coreProperties>
</file>